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D1A-9D6E-4178-997C-1E72F157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977-CEF8-4786-A01B-BF172A9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F53-CBE4-4666-91B2-D66149F4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77D-F740-4E7E-BAA1-7E668E6A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C01-E0B3-45EB-B575-D6BC07AA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3FC-AFF4-4A1B-82E8-D9B7C2E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D8D-9FBF-43EF-8032-A41CD82D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5A3-8A00-4A65-B5A9-877B8DD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833-9ECA-4F5E-B5EF-9598BC3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BA3-F07F-49B6-A94A-7F91A70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FF1-F83E-44B8-A796-3EB2CE2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E45-B9FB-4A1B-922A-0407089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680-0857-40B2-B05C-37F6ACE54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burban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00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512424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"Idaho" pota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6323760" y="3886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167652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 On M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44 -0.08535 C 0.14948 -0.06615 0.12864 -0.04973 0.10798 -0.03192 C 0.10087 -0.02568 0.08403 -0.01967 0.08403 -0.01967 C 0.07847 -0.01342 0.07205 -0.00833 0.06805 -6.26272E-006 C 0.06892 0.00439 0.06892 0.00994 0.07066 0.0141 C 0.075 0.02474 0.08663 0.02612 0.09479 0.03168 C 0.10382 0.03792 0.11371 0.04162 0.12274 0.04786 C 0.1276 0.0511 0.13142 0.05642 0.13611 0.06012 C 0.15989 0.07862 0.18941 0.09296 0.20278 0.12788 C 0.20364 0.13575 0.20521 0.14268 0.20278 0.15101 C 0.1967 0.17182 0.16024 0.18015 0.1467 0.18454 C 0.13212 0.18269 0.11719 0.18316 0.10278 0.17922 C 0.08611 0.17437 0.03732 0.1369 0.02934 0.11724 C 0.02673 0.11077 0.02344 0.10452 0.02135 0.09759 C 0.0158 0.07862 0.00677 0.04046 0.00677 0.04046 C 0.00521 -0.00926 -0.00018 -0.06014 0.00399 -0.11032 C 0.00625 -0.13622 0.01597 -0.15334 0.03472 -0.15658 C 0.04271 -0.15449 0.05104 -0.15473 0.05868 -0.15126 C 0.0783 -0.14154 0.09114 -0.10894 0.10139 -0.0872 C 0.12326 0.02312 0.13715 0.17321 0.04531 0.2308 C 0.0243 0.24398 0.01545 0.24213 -0.00799 0.24514 C -0.10174 0.21322 -0.18854 0.15193 -0.26667 0.07608 C -0.30313 0.04093 -0.35295 0.00485 -0.38403 -0.04279 C -0.38837 -0.0865 -0.35382 -0.08188 -0.33056 -0.0835 C -0.23056 -0.07887 -0.17118 -0.01111 -0.09722 0.07076 C -0.08993 0.09088 -0.06337 0.15702 -0.06268 0.18292 C -0.06181 0.2116 -0.06563 0.24051 -0.07188 0.2678 C -0.09045 0.34921 -0.17031 0.35822 -0.22136 0.36378 C -0.29566 0.35822 -0.35955 0.35776 -0.42934 0.32839 C -0.45 0.32007 -0.46702 0.31475 -0.48525 0.30018 C -0.46754 0.2641 -0.41215 0.23658 -0.38802 0.22363 C -0.32188 0.18824 -0.25417 0.17529 -0.18403 0.16327 C -0.0467 0.16627 0.03767 0.15008 0.14531 0.26271 C 0.15937 0.29509 0.17153 0.31197 0.17205 0.3499 C 0.17413 0.50161 0.0276 0.55156 -0.05868 0.57353 C -0.12031 0.56845 -0.15469 0.56405 -0.21059 0.53075 C -0.22257 0.50901 -0.25087 0.49143 -0.24653 0.46507 C -0.24219 0.43871 -0.24219 0.4098 -0.23334 0.38528 C -0.21667 0.33857 -0.16129 0.29116 -0.13334 0.2678 C 0.02569 0.13598 0.22135 0.09111 0.40538 0.07446 C 0.43785 0.07515 0.47031 0.07446 0.50278 0.07608 C 0.50642 0.07654 0.51041 0.07677 0.51337 0.07978 C 0.51475 0.08094 0.50989 0.08094 0.50798 0.08163 C 0.48941 0.08602 0.47066 0.08995 0.45208 0.09412 C 0.36215 0.11424 0.32864 0.10915 0.22934 0.11193 C 0.07569 0.12233 -0.07309 0.11771 -0.22656 0.10661 C -0.35538 0.08579 -0.52535 0.07608 -0.62396 -0.05505 C -0.62743 -0.10847 -0.59775 -0.12397 -0.56268 -0.14224 C -0.48993 -0.1804 -0.42795 -0.19173 -0.3507 -0.19543 C -0.2882 -0.18988 -0.24063 -0.1871 -0.18663 -0.14409 C -0.18403 -0.13946 -0.17952 -0.13576 -0.17865 -0.12975 C -0.17518 -0.10824 -0.21736 -0.10709 -0.21997 -0.10685 C -0.3132 -0.11425 -0.43993 -0.11888 -0.52934 -0.15449 C -0.48316 -0.17276 -0.429 -0.17508 -0.38264 -0.18132 C -0.27153 -0.17485 -0.16007 -0.17415 -0.04931 -0.16166 C 0.21024 -0.13299 0.45364 -0.02614 0.68802 0.11886 C 0.80121 0.31058 0.82361 0.29786 0.68802 0.68732 C 0.6809 0.70744 0.48298 0.7264 0.46805 0.72825 C 0.39028 0.72386 0.3191 0.71854 0.2441 0.69079 C 0.23785 0.68616 0.23038 0.68362 0.22535 0.67668 C 0.22153 0.67136 0.21441 0.648 0.22135 0.63945 C 0.22552 0.63436 0.23229 0.63575 0.23732 0.63228 C 0.24705 0.62557 0.2559 0.61632 0.26545 0.60892 C 0.28437 0.59481 0.30225 0.57747 0.32274 0.56798 C 0.36823 0.54763 0.43437 0.55041 0.48003 0.54879 C 0.5342 0.54995 0.58854 0.55041 0.64271 0.55226 C 0.66146 0.55272 0.68021 0.55388 0.69878 0.55596 C 0.70798 0.55665 0.72291 0.5622 0.70937 0.55735 C 0.68958 0.56683 0.63212 0.56798 0.61736 0.57007 C 0.4901 0.56637 0.36423 0.55781 0.23732 0.55041 C 0.20955 0.54717 0.17535 0.5511 0.15208 0.52566 C 0.17361 0.49699 0.20642 0.47964 0.23333 0.46345 C 0.36493 0.38459 0.30503 0.43339 0.38142 0.36563 C 0.4 0.32215 0.38663 0.30735 0.36267 0.2678 C 0.34097 0.23218 0.29566 0.16535 0.26944 0.13459 C 0.19982 0.05388 0.19548 0.0666 0.08802 0.02474 C 0.0283 0.00138 -0.03177 -0.02036 -0.09202 -0.04094 C -0.20087 -0.07818 -0.3316 -0.10107 -0.42136 -0.2026 C -0.42743 -0.22989 -0.42275 -0.22966 -0.40521 -0.24862 C -0.39566 -0.25926 -0.38629 -0.2699 -0.37587 -0.27915 C -0.36007 -0.29256 -0.34427 -0.29811 -0.33056 -0.31615 C -0.34393 -0.3254 -0.34827 -0.30204 -0.3533 -0.28979 C -0.36424 -0.23035 -0.33872 -0.20746 -0.31597 -0.16698 C -0.30851 -0.15357 -0.3033 -0.13831 -0.29601 -0.12466 C -0.29167 -0.09668 -0.31476 -0.0761 -0.32934 -0.06222 C -0.35972 -0.03308 -0.38143 -0.01342 -0.404 0.02636 C -0.4066 0.03815 -0.41389 0.05781 -0.4066 0.07076 C -0.39236 0.0962 -0.33143 0.10799 -0.31459 0.10984 C -0.2809 0.11378 -0.2132 0.11724 -0.2132 0.11724 C -0.2132 0.11724 -0.17066 0.12603 -0.16268 0.1332 C -0.15972 0.13575 -0.15903 0.14153 -0.15729 0.14569 C -0.16268 0.16489 -0.16563 0.18616 -0.17327 0.20397 C -0.225 0.32515 -0.33525 0.41997 -0.41198 0.49722 C -0.43993 0.5252 -0.46493 0.56058 -0.49722 0.57862 C -0.59462 0.6339 -0.68212 0.6709 -0.78802 0.67853 C -0.78716 0.6413 -0.78976 0.60337 -0.78525 0.56637 C -0.78368 0.55434 -0.77604 0.5444 -0.77066 0.53422 C -0.73507 0.46623 -0.73247 0.45258 -0.67726 0.41211 C -0.57865 0.33972 -0.47465 0.31452 -0.36389 0.30896 C -0.31285 0.31475 -0.28976 0.31359 -0.2507 0.36216 C -0.24844 0.36956 -0.24427 0.37673 -0.24393 0.38528 C -0.24219 0.4357 -0.25747 0.54486 -0.29462 0.57353 C -0.31476 0.5888 -0.32552 0.5881 -0.3467 0.59134 C -0.41059 0.56914 -0.4724 0.52474 -0.51736 0.45813 C -0.52847 0.44148 -0.53594 0.42113 -0.54531 0.40309 C -0.55156 0.37395 -0.56129 0.34227 -0.5599 0.31082 C -0.5592 0.29463 -0.55764 0.27798 -0.5533 0.26271 C -0.5309 0.18477 -0.45191 0.17922 -0.40122 0.17229 C -0.23108 0.17899 -0.04827 0.21738 0.0908 0.35661 C 0.10989 0.46114 0.01823 0.52173 -0.04132 0.55596 C -0.06511 0.5696 -0.08959 0.5807 -0.11459 0.58972 C -0.13906 0.59828 -0.16441 0.60267 -0.18924 0.60892 C -0.21511 0.6073 -0.24115 0.60961 -0.26667 0.60383 C -0.33715 0.58764 -0.39479 0.54208 -0.45191 0.4882 C -0.46215 0.46831 -0.47518 0.45027 -0.48264 0.42807 C -0.5224 0.31082 -0.43056 0.19287 -0.36389 0.14014 C -0.33611 0.11817 -0.30643 0.09921 -0.27587 0.08487 C -0.2408 0.06868 -0.20417 0.05873 -0.16788 0.04786 C -0.12813 0.03561 -0.0882 0.02381 -0.04792 0.01572 C -0.00243 0.0067 0.04357 0.00115 0.08941 -0.00371 C 0.13472 -0.00833 0.18003 -0.00972 0.22535 -0.0125 C 0.30746 -0.01065 0.42604 -0.0125 0.50937 0.00531 C 0.59323 0.02312 0.63316 0.04833 0.70937 0.08695 C 0.72187 0.10707 0.74201 0.1221 0.7467 0.14731 C 0.75312 0.18177 0.74514 0.219 0.7401 0.25392 C 0.73316 0.30226 0.65295 0.30018 0.63073 0.3018 C 0.55538 0.28191 0.47882 0.26202 0.40677 0.22548 C 0.3493 0.19611 0.29323 0.16211 0.23611 0.13135 C 0.16007 0.09042 0.08906 0.05642 0.02135 -0.00718 C -0.00035 -0.05667 0.02066 -0.09275 0.04809 -0.13322 C 0.10017 -0.21 0.08767 -0.1834 0.15347 -0.23266 C 0.17743 -0.25093 0.19896 -0.27475 0.22413 -0.28979 C 0.26007 -0.31083 0.31944 -0.32378 0.35868 -0.33396 C 0.37378 -0.3298 0.3901 -0.33049 0.40399 -0.3217 C 0.42587 -0.30759 0.38785 -0.25857 0.38264 -0.25394 C 0.32205 -0.20029 0.24774 -0.1649 0.17743 -0.14409 C 0.07274 -0.1124 0.01614 -0.10894 -0.09202 -0.09598 C -0.29254 -0.07216 -0.4934 -0.07101 -0.69462 -0.06939 C -0.72448 -0.05759 -0.70712 -0.06661 -0.64132 -0.04811 C -0.58854 -0.03331 -0.46077 0.01572 -0.39861 0.03908 C -0.36702 0.05087 -0.3375 0.07053 -0.3066 0.08487 C -0.27084 0.10152 -0.23316 0.111 -0.19861 0.13135 C -0.11337 0.18131 -0.02604 0.26919 0.02413 0.37626 C 0.0375 0.40494 0.04375 0.43801 0.05347 0.46877 C 0.06059 0.54601 0.07048 0.58417 0.05347 0.66072 C 0.02309 0.79671 -0.0599 0.90402 -0.15868 0.95351 C -0.18403 0.96646 -0.21198 0.96761 -0.23854 0.97501 C -0.29497 0.96738 -0.35226 0.96646 -0.40799 0.95189 C -0.49844 0.9283 -0.57275 0.85383 -0.64393 0.78144 C -0.65764 0.74999 -0.67726 0.72224 -0.68525 0.68732 C -0.71424 0.55665 -0.67448 0.40494 -0.62656 0.29301 C -0.50434 0.00808999999999999 -0.28941 -0.12212 -0.0559 -0.176 C -0.0217 -0.17392 0.01719 -0.17878 0.0493 -0.15658 C 0.06024 -0.14871 0.06805 -0.13507 0.07743 -0.12466 C 0.09566 -0.04094 0.06666 0.03815 0.03212 0.10661 C -0.05538 0.27913 -0.17361 0.42575 -0.33195 0.45813 C -0.34045 0.45605 -0.34931 0.45698 -0.35729 0.45258 C -0.37813 0.44194 -0.38281 0.4283 -0.39601 0.40656 C -0.43785 0.21183 -0.36719 0.00161 -0.24792 -0.11749 C -0.22552 -0.13946 -0.20035 -0.15658 -0.17587 -0.17415 C -0.15764 -0.18757 -0.13976 -0.20214 -0.11997 -0.20977 C -0.09705 -0.21832 -0.07292 -0.21786 -0.04931 -0.22226 C 0.02639 -0.21046 0.08437 -0.19404 0.1467 -0.1279 C 0.21059 -0.06014 0.24132 0.06382 0.26007 0.16489 C 0.2592 0.1739 0.26094 0.18408 0.25746 0.19171 C 0.2559 0.19495 0.25191 0.18963 0.2493 0.18824 C 0.23194 0.17922 0.21493 0.16928 0.19739 0.16165 C 0.1809 0.15448 0.16423 0.14823 0.14809 0.14014 C 0.11059 0.12141 0.07326 0.10152 0.03611 0.08163 C -0.00226 0.06105 -0.03195 0.05041 -0.05729 0.00878 C -0.06372 -0.03539 -0.04861 -0.05759 -0.02257 -0.0835 C 0.03385 -0.14016 0.0776 -0.1619 0.14809 -0.16883 C 0.15555 -0.16768 0.16354 -0.16837 0.17066 -0.16513 C 0.2 -0.15195 0.20139 -0.12258 0.20798 -0.0872 C 0.1993 0.05573 0.13785 0.20489 0.03333 0.26109 C -0.00486 0.28168 -0.02552 0.28098 -0.06389 0.28584 C -0.09115 0.28353 -0.17379 0.28283 -0.2092 0.26641 C -0.24236 0.25092 -0.27413 0.21761 -0.3 0.18639 C -0.31615 0.12927 -0.24497 0.10175 -0.21736 0.0888 C -0.13906 0.05226 -0.05382 0.04995 0.02812 0.03908 C 0.11614 0.04208 0.20139 0.04185 0.28802 0.05318 C 0.28975 0.05365 0.29392 0.05735 0.2934 0.05503 C 0.29253 0.0511 0.28923 0.04971 0.2868 0.04786 C 0.28055 0.04324 0.24097 0.01711 0.23073 0.01248 C 0.18975 -0.00579 0.14705 -0.01689 0.10399 -0.01967 C 0.0934 -0.01897 0.08264 -0.0155 0.07205 -0.01782 C 0.06666 -0.01897 0.08264 -0.02175 0.08802 -0.02337 C 0.09201 -0.02406 0.096 -0.02429 0.1 -0.02499 C 0.10225 -0.02614 0.10486 -0.0266 0.10677 -0.02845 C 0.10781 -0.02961 0.10937 -0.03377 0.10798 -0.03377 C 0.10434 -0.03447 0.10087 -0.03146 0.09739 -0.03054 C 0.06944 -0.01018 0.09496 -0.03123 0.06406 0.00531 C 0.03594 0.03815 0.00399 0.06613 -0.01858 0.10661 C -0.0191 0.10846 -0.02136 0.11193 -0.01997 0.11193 C -0.01754 0.11193 -0.01111 0.09551 -0.0092 0.09227 C 0.0026 0.0696 0.01232 0.06012 0.02014 0.03376 C 0.01927 0.02612 0.01892 0.01826 0.01736 0.01063 C 0.01597 0.00346 0.00434 -6.26272E-006 3.88889E-006 -6.26272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402000" cy="624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26708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“Idaho” Pot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6/11,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urban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The “Idaho” po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re are 110 calories in one Idaho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Harvest 2007 produced 13 billion pounds of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contains 2 grams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contains several  different vita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One Idaho potato weighs around 5.3 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The Idaho potato is 80% water and 20% 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Luther Bur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ther Burbank had only an element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conducted more than 3000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greatest success was the Idaho po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age of 21, Burbank purchased 17 acres of land to test mor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7:29:35Z</dcterms:created>
  <dc:creator>install</dc:creator>
  <dc:description/>
  <dc:language>en-US</dc:language>
  <cp:lastModifiedBy>install</cp:lastModifiedBy>
  <dcterms:modified xsi:type="dcterms:W3CDTF">2011-06-01T17:38:25Z</dcterms:modified>
  <cp:revision>6</cp:revision>
  <dc:subject/>
  <dc:title>Slide 1</dc:title>
</cp:coreProperties>
</file>